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1283-679F-454B-829A-B78C5535B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9702-6E2F-4E70-BAD0-7845DFC98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5CB5-4DB7-4026-812A-46E9E280B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2721-5EB8-4384-8DEB-784AA4F84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7690-4D19-4237-A654-BE9CEF124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2CC2-24DB-408F-A403-379ECE5B6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3FE5-951D-40F9-931C-EE527CCC2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12CC-F945-46BE-B301-778E0F104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0E04-7F09-4FF7-902D-E3A5D4E7C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ADEE-97DA-4498-8A03-0DCDA102A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9BBF-5265-4D59-AAA5-8B2097EB7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3C9D-E69C-4A29-995B-B2C901058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6EF2-681B-4BF8-8330-BC87C62F1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797C-137E-496F-8F18-728B46A24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606C-CE11-432B-801B-A4E81506F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E7B0-A6D2-42CA-AD85-193F3642A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1966-A952-4BF9-8FF1-AB1970B4B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2317-47DF-4750-AC11-A7EDBE995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F241-0D0E-4987-A456-DFE1F1EAD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BA59-BE22-4CEF-B5B6-FCB5E3CDF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AA10-C29E-4306-9E48-A7BA9530C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5636-7611-43ED-917D-3F37E6072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28AE4-015D-4AD3-9A48-D4A32B560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1B6D9-B046-4CA4-AB92-2CBF435A4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B5415-B8F3-4715-A50D-99D453D9FD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37FAB-5523-4364-BA55-9EFD3C65B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9DB4-3532-472D-8E8D-A0494F332F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F1A2-DFE2-4A67-96BB-84C05C972D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0422-BB1B-45EF-A41B-72EB117A71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CD61-E94B-4597-A64F-2AF4721A0C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47BE-F4B3-4139-B47D-39BD56DEA5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1B59-5081-4BB9-A63D-E2F5B46769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B000-E430-46DC-814F-F0A7B5EC17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1FC71-0925-474C-93A9-05B63BD732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4E47-F1D2-407D-96C9-8A561A3CF3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FC19-2F0D-4BB2-A574-C5E6FF21FF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4DE5-E548-4B78-A648-7379D81ECE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FA7-AF9A-47BA-A7B5-A011244D88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D273-FA33-4E67-B99E-6BEE23EAEED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9A205-512C-4BBD-9D0E-4620AF04165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F4A02-590C-4FA9-BA87-F0DE8B5DB1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300F1-B1DA-4351-9FB4-D4F1BB31A6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FE946-DBE6-4244-8C2B-E11568E3BF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EEF03-9A52-4076-A0C8-5F6E4239CA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77BA4-E5AB-43DE-B3C9-1D2A2BF741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D4A33-5D07-4012-853B-77782074BB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CE3C2-2FB7-4567-9676-EC349B6B20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5D1C5-7BEA-4CA1-B551-B4F831492F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9D97C-BA32-4B5D-ACA6-769761BF72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E5853-BDFC-454E-9494-366FA091B0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11765-16BE-4EF1-AF05-99CB5A5DA3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F5ADF-D2C8-460A-BC78-C0CD0D186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CEC85-1683-4E6E-9D76-C01B2BC830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AAA52-AE94-4764-B14C-C512DFC3A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0E11B-55D7-482A-BE8C-4C881C1E5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851AE-CF50-4058-992F-FC54ABFEA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90534-DC3B-494B-88D3-5F4EB8E2E0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23440-2586-4FFE-9490-547CA9FEE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94BF-CB2C-4C79-8DD6-F80E7A4158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6111-03E2-4D8E-AAD8-BA085F43CB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5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C8B3-3D1A-443F-82D3-35C5558F8D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5480" y="2023560"/>
            <a:ext cx="6096240" cy="193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Контроль качеств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: 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Молекулярная диагностик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87A7-D3F9-48C1-B1DA-BCFD0B5808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1571-B57E-4C58-A2D2-AF45DCE7088E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рицательный результа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8E58-A2FC-4C71-8150-3859205B80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07B6-AF52-4E98-A74C-DA6C8F46781E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иск использования ПЦР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инство методов ПЦР в реальном времени «домашнего изготовления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ймеры не всегда оптимизированы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ожительные контроли «домашнего изготовлени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ицательные контроли «домашнего изготовлени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терпретировать результаты следует с осторожность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7CDD-DCB8-4C8B-9EE0-B07EA1F3A5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23F4-1C46-4B5B-90D2-6278B675A2DE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4197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щий подход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Взятие, транспортировка и обработ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-2728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еспечьте сохранность нуклеиновых кислот во время эти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Контроль контамин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-2728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одностороннее движение по технологической цепочке: от зоны, свободной от ДНК, где готовят реагенты, к зоне обработки проб, затем к зоне, где происходит амплификация и анализ продук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Положительные и отрицательные контро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Ссылка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: CLSI MM3-A (Molecular Diagnostic Methods for Infectious Diseases</a:t>
            </a: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етоды молекулярной диагностики инфекционных заболеваний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]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9429-8314-4C1F-8394-2D7A7E7FA7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E8D1-BC1D-40B6-85DA-EBEE27FEF002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олекулярная диагностик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884160" y="1981080"/>
            <a:ext cx="7373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285C-493C-4F18-99E1-C76482A2DF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75D5-0769-407A-8B74-33D90237BD8E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482112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8634-E277-4917-AAB6-7141C4A503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A9C3-D04B-4B4B-9FCD-60271F93DDEC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ЦР в реальном времен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ПРО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ПРАЙ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</a:t>
            </a: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полиме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3733920" y="2209680"/>
            <a:ext cx="297180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мплифицир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пециф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уклеинов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змеряе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флуоресц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63CD-54CB-4A35-86D2-6FC856C81F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1E81-140F-4096-BDA9-E5220AB235A3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666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акции амплифик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4"/>
          <p:cNvSpPr/>
          <p:nvPr/>
        </p:nvSpPr>
        <p:spPr>
          <a:xfrm>
            <a:off x="1752480" y="2811600"/>
            <a:ext cx="5612040" cy="2471760"/>
          </a:xfrm>
          <a:custGeom>
            <a:avLst/>
            <a:gdLst>
              <a:gd name="textAreaLeft" fmla="*/ 0 w 5612040"/>
              <a:gd name="textAreaRight" fmla="*/ 5612040 w 5612040"/>
              <a:gd name="textAreaTop" fmla="*/ 0 h 2471760"/>
              <a:gd name="textAreaBottom" fmla="*/ 2472120 h 2471760"/>
            </a:gdLst>
            <a:ahLst/>
            <a:rect l="textAreaLeft" t="textAreaTop" r="textAreaRight" b="textAreaBottom"/>
            <a:pathLst>
              <a:path w="3535" h="1557">
                <a:moveTo>
                  <a:pt x="0" y="1509"/>
                </a:moveTo>
                <a:cubicBezTo>
                  <a:pt x="544" y="1533"/>
                  <a:pt x="1088" y="1557"/>
                  <a:pt x="1392" y="1509"/>
                </a:cubicBezTo>
                <a:cubicBezTo>
                  <a:pt x="1696" y="1461"/>
                  <a:pt x="1712" y="1333"/>
                  <a:pt x="1824" y="1221"/>
                </a:cubicBezTo>
                <a:cubicBezTo>
                  <a:pt x="1936" y="1109"/>
                  <a:pt x="1988" y="1019"/>
                  <a:pt x="2064" y="837"/>
                </a:cubicBezTo>
                <a:cubicBezTo>
                  <a:pt x="2140" y="655"/>
                  <a:pt x="2148" y="252"/>
                  <a:pt x="2283" y="126"/>
                </a:cubicBezTo>
                <a:cubicBezTo>
                  <a:pt x="2418" y="0"/>
                  <a:pt x="2665" y="94"/>
                  <a:pt x="2874" y="80"/>
                </a:cubicBezTo>
                <a:cubicBezTo>
                  <a:pt x="3083" y="66"/>
                  <a:pt x="3397" y="49"/>
                  <a:pt x="3535" y="4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Амплификация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/</a:t>
            </a: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AutoShape 6" descr=""/>
          <p:cNvPicPr/>
          <p:nvPr/>
        </p:nvPicPr>
        <p:blipFill>
          <a:blip r:embed="rId1"/>
          <a:stretch/>
        </p:blipFill>
        <p:spPr>
          <a:xfrm>
            <a:off x="523800" y="1805040"/>
            <a:ext cx="561960" cy="3462120"/>
          </a:xfrm>
          <a:prstGeom prst="rect">
            <a:avLst/>
          </a:prstGeom>
          <a:ln w="0">
            <a:noFill/>
          </a:ln>
        </p:spPr>
      </p:pic>
      <p:sp>
        <p:nvSpPr>
          <p:cNvPr id="196" name="Freeform 7"/>
          <p:cNvSpPr/>
          <p:nvPr/>
        </p:nvSpPr>
        <p:spPr>
          <a:xfrm>
            <a:off x="1752480" y="5300640"/>
            <a:ext cx="5562720" cy="135000"/>
          </a:xfrm>
          <a:custGeom>
            <a:avLst/>
            <a:gdLst>
              <a:gd name="textAreaLeft" fmla="*/ 0 w 5562720"/>
              <a:gd name="textAreaRight" fmla="*/ 5563080 w 556272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3504" h="85">
                <a:moveTo>
                  <a:pt x="0" y="69"/>
                </a:moveTo>
                <a:cubicBezTo>
                  <a:pt x="692" y="85"/>
                  <a:pt x="1375" y="79"/>
                  <a:pt x="1776" y="69"/>
                </a:cubicBezTo>
                <a:cubicBezTo>
                  <a:pt x="2177" y="59"/>
                  <a:pt x="2118" y="18"/>
                  <a:pt x="2406" y="9"/>
                </a:cubicBezTo>
                <a:cubicBezTo>
                  <a:pt x="2694" y="0"/>
                  <a:pt x="3275" y="15"/>
                  <a:pt x="3504" y="17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5268600" y="240660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ПОЛОЖ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5042160" y="472428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АМПЛИФИКАЦИИ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7BFC-09DB-4F58-ADA8-95DC119DD5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2835-D9D2-42A6-BD2B-68C097D1736E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ЦР в реальном времен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pic>
        <p:nvPicPr>
          <p:cNvPr id="204" name="TextBox 1" descr=""/>
          <p:cNvPicPr/>
          <p:nvPr/>
        </p:nvPicPr>
        <p:blipFill>
          <a:blip r:embed="rId2"/>
          <a:stretch/>
        </p:blipFill>
        <p:spPr>
          <a:xfrm>
            <a:off x="1474920" y="2773440"/>
            <a:ext cx="353880" cy="14745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7"/>
          <p:cNvSpPr/>
          <p:nvPr/>
        </p:nvSpPr>
        <p:spPr>
          <a:xfrm>
            <a:off x="3931200" y="5334120"/>
            <a:ext cx="11592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Номер цик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7023960" y="2114640"/>
            <a:ext cx="7095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Проба 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Verdana"/>
              </a:rPr>
              <a:t>Проба 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7113960" y="4021200"/>
            <a:ext cx="5724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66"/>
                </a:solidFill>
                <a:latin typeface="Verdana"/>
              </a:rPr>
              <a:t>Поро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2879640" y="4770360"/>
            <a:ext cx="5763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b0f0"/>
                </a:solidFill>
                <a:latin typeface="Verdana"/>
              </a:rPr>
              <a:t>Фо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2517480" y="3290760"/>
            <a:ext cx="11559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b0f0"/>
                </a:solidFill>
                <a:latin typeface="Verdana"/>
              </a:rPr>
              <a:t>Экспоненциальна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b0f0"/>
                </a:solidFill>
                <a:latin typeface="Verdana"/>
              </a:rPr>
              <a:t> </a:t>
            </a:r>
            <a:r>
              <a:rPr b="1" lang="ru-RU" sz="900" spc="-1" strike="noStrike">
                <a:solidFill>
                  <a:srgbClr val="00b0f0"/>
                </a:solidFill>
                <a:latin typeface="Verdana"/>
              </a:rPr>
              <a:t>фаз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3C6C-BF06-41E0-97D1-CB0FFB8637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F620-B72B-4AB6-979D-35D393960C0A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666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ирус гриппа </a:t>
            </a: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323F-1233-4EBD-8D6F-CF8BBB80C1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D937-E76D-4BA5-B6A8-A8D5256892B1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ирус гриппа </a:t>
            </a: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650880" y="1676520"/>
            <a:ext cx="7883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Olga</cp:lastModifiedBy>
  <dcterms:modified xsi:type="dcterms:W3CDTF">2013-05-12T11:03:51Z</dcterms:modified>
  <cp:revision>17</cp:revision>
  <dc:subject/>
  <dc:title>Quality Control:   Molecular Diagnostics</dc:title>
</cp:coreProperties>
</file>